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39E-C030-4980-92B4-252AED73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F2B-DB60-4185-A6E4-E5EBDDF3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E44-EFD8-4F14-AA7B-990CE081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88D-1A89-41CB-A2DA-0F816132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CF9-D948-48C3-AEBA-48AEE426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CAF-8DB8-44ED-B6DE-67698A96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47C-1AF6-41C2-91FB-D804B51E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782-E3B0-4AEB-858A-EE74B996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ADF-A254-40C3-A356-A8A907AA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E82-15E4-465E-9462-22819B68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70A-0F93-4CF2-911E-416CD610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B91-6EE5-4AB1-8337-24B023F4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4F93-B082-4E96-8188-98F717A311FA}" type="slidenum">
              <a:rPr b="0" lang="sr-Latn-C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вод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. Dr T.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бор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ир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285560"/>
            <a:ext cx="7386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т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етр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2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x7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x75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едст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л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ел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ов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кти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ри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љ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5/1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т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риг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ле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8001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ерс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81040" y="1600200"/>
            <a:ext cx="798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73580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1827360" y="1600200"/>
            <a:ext cx="548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57200" y="1695600"/>
            <a:ext cx="8229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63520" y="928440"/>
            <a:ext cx="7386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ема пореклу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савремена и традиционална масажа. Савремена масажа је повезана са кинезитерапијом; данас се користи не само у терапијске, него и у профилактичке сврх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ема томе ко изводи масаж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 постоји самомасажа, код које се особа сама масира, или масажу изводи једна особа (терапеут) на другој осо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арату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а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класична мануелна 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лимфна дрен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рефлексна 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.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рт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зметич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3520" y="571320"/>
            <a:ext cx="7386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ада се под појмом масажа подразумевало првенствено  коришћење енергије руку терапеута на телу пацијента, који је при том пасиван, тзв мануелна 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ше од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75 потпуно различитих техник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 можемо сматрати масажом, које се изводе на 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личите начине:  мануелно, а неке апаратима (апаратурна масажа). Постоје технике масаже којеподразумевају пренос енергије са терапеута на пацијента некада и без директног конта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74772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ема начину извођења 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3520" y="713880"/>
            <a:ext cx="73864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ануелну или ручну масаж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изводи терапеут рукама користећи сопствену енерг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А) класичне технике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глађење,трљање, гњечење,лупкање и виб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) специјалне технике масаже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остна, фасцијална, поткожна, кожна, сегментна масажа, акопресура, рефлексна масажа стопала, шијацу масажа, мануелна лимфна дренажа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пште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индиректн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071720"/>
            <a:ext cx="76500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д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уште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ка млитавост  и  замореност миш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ич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гестив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мирују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S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ул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ној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брза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ши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ски делује на нервозу,главобољу  несаниц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 преверемено рођене де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ао антистресогена 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терапији депресије, болова,стимулише имунитет.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-126000"/>
            <a:ext cx="7476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3520" y="642600"/>
            <a:ext cx="73864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 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zheime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ове болести, депресије, фибромијалгије, пременструалних тегоба, стреса на послу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че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стов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carpal tunel 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нервозе, главобоље и неса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у  мокраћом: мокраћне киселине, соли фосфора, нитрата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ом се отклања ум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сив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марањ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тич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ски примењен дод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дир је саставни део живота сваког од нас.  Пружа осећај сигурности, задовољства и даје животну снагу. Додир је прво чуло које се развија. Преко њега упознајемо околину и стварамо однос са светом који нас окружу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варивање контакта са другим особама и светом који нас окружује, пријатан,  може бити и терапијско сред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 би имао терапијски ефекат, додир мора бити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науч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ишћење масаже везано је за историјске, верске и економске окол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ада  је масажа чешће коришћена у појединим деловима света, у одређеним слојевима друштва, првенствено код особа које су имале неки здравствени проб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3520" y="571320"/>
            <a:ext cx="7386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 су у почетку спроводили нешколовани људи који су емпиријски стицали знања од својих претходника,а унапређивана је кроз практичну прим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ом времена масажа се развијала првенствено као лекарска вештина, јер је за њено извођење потребно  познавање анатомије и физиоло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ханотера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ењ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ен је свим културама и временским епох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75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чит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ази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3520" y="928440"/>
            <a:ext cx="7386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раживања самог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рена речи ,,масажа,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сведоче да је реч о веома старој методи. Први пут је под овим именом у литератури поми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1813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годин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epa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sa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њеч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s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ап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тиск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sag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рљав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0" y="785880"/>
            <a:ext cx="76723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3520" y="857160"/>
            <a:ext cx="7386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наж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држљи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диц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колов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ре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уш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ов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деква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ев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доб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и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во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физ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у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шт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с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ирцхбер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3:12:48Z</dcterms:created>
  <dc:creator>korisnik</dc:creator>
  <dc:description/>
  <dc:language>en-US</dc:language>
  <cp:lastModifiedBy>Info</cp:lastModifiedBy>
  <dcterms:modified xsi:type="dcterms:W3CDTF">2018-08-13T20:19:39Z</dcterms:modified>
  <cp:revision>57</cp:revision>
  <dc:subject/>
  <dc:title>Uvod u masažu</dc:title>
</cp:coreProperties>
</file>